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5603200" cy="40233600"/>
  <p:notesSz cx="24688800" cy="3931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7128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86204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16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07128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86204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908-396C-44A2-B906-80073A58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2A8-56E7-4DD5-A637-594E199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B01-77B2-411A-B2CE-13D19794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0EF-C4C1-45BF-BC46-D5A0EC60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87A-09BA-462D-AD2F-3015192A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0160" y="1605240"/>
            <a:ext cx="23042520" cy="31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F3E2-5A14-4279-9AA4-573D3121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46B-68EA-4E06-BCCF-713929C6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C63-FF98-4874-8A2A-84098661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D6D-AB18-4D82-BF6E-11E5C435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30C-5E98-4F84-8AA8-91CAD61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9AB-3808-47BE-9089-1169B3D5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07128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86204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8016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907128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686204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E25-2985-4CCA-9CCA-D3F96B1B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160" y="1605240"/>
            <a:ext cx="23042520" cy="31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30280" cy="40233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5599960" cy="40971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962520"/>
            <a:ext cx="1866960" cy="33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I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N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T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N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T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S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A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C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H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L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A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B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1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  <a:p>
            <a:pPr lvl="1" marL="3057480" indent="-1177920">
              <a:spcBef>
                <a:spcPts val="2874"/>
              </a:spcBef>
              <a:buClr>
                <a:srgbClr val="ffffff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1500" spc="-1" strike="noStrike">
              <a:solidFill>
                <a:srgbClr val="ffffff"/>
              </a:solidFill>
              <a:latin typeface="Arial"/>
            </a:endParaRPr>
          </a:p>
          <a:p>
            <a:pPr lvl="2" marL="4703760" indent="-941400">
              <a:spcBef>
                <a:spcPts val="2449"/>
              </a:spcBef>
              <a:buClr>
                <a:srgbClr val="00ffcc"/>
              </a:buClr>
              <a:buFont typeface="Arial"/>
              <a:buChar char="•"/>
              <a:tabLst>
                <a:tab algn="l" pos="7524720"/>
              </a:tabLst>
            </a:pPr>
            <a:r>
              <a:rPr b="1" lang="en-US" sz="9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9800" spc="-1" strike="noStrike">
              <a:solidFill>
                <a:srgbClr val="ffffff"/>
              </a:solidFill>
              <a:latin typeface="Arial"/>
            </a:endParaRPr>
          </a:p>
          <a:p>
            <a:pPr lvl="3" marL="6583320" indent="-941400">
              <a:spcBef>
                <a:spcPts val="2075"/>
              </a:spcBef>
              <a:buClr>
                <a:srgbClr val="ffffff"/>
              </a:buClr>
              <a:buFont typeface="Arial"/>
              <a:buChar char="–"/>
              <a:tabLst>
                <a:tab algn="l" pos="752472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4" marL="8464680" indent="-939960">
              <a:spcBef>
                <a:spcPts val="2075"/>
              </a:spcBef>
              <a:buClr>
                <a:srgbClr val="00ffcc"/>
              </a:buClr>
              <a:buFont typeface="Arial"/>
              <a:buChar char="•"/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5" marL="8464680" indent="-939960">
              <a:spcBef>
                <a:spcPts val="20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6" marL="8464680" indent="-939960">
              <a:spcBef>
                <a:spcPts val="20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0"/>
            <a:ext cx="4054680" cy="4022424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0960" y="14304960"/>
            <a:ext cx="23679000" cy="4470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0960" y="1341072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1920960" y="36208800"/>
            <a:ext cx="533376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8747280" y="36208800"/>
            <a:ext cx="810864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18348480" y="36208800"/>
            <a:ext cx="533376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62840"/>
            <a:ext cx="13227120" cy="8953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27120" y="2824200"/>
            <a:ext cx="5040" cy="85680"/>
          </a:xfrm>
          <a:prstGeom prst="rect">
            <a:avLst/>
          </a:prstGeom>
          <a:solidFill>
            <a:srgbClr val="ffa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2824200"/>
            <a:ext cx="5040" cy="85680"/>
          </a:xfrm>
          <a:prstGeom prst="rect">
            <a:avLst/>
          </a:prstGeom>
          <a:solidFill>
            <a:srgbClr val="ff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79760" y="2976480"/>
            <a:ext cx="4680" cy="85680"/>
          </a:xfrm>
          <a:prstGeom prst="rect">
            <a:avLst/>
          </a:prstGeom>
          <a:solidFill>
            <a:srgbClr val="ffa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838080"/>
            <a:ext cx="24383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Rockwell Condensed"/>
              </a:rPr>
              <a:t>A Two-Tier Data Dissemination Model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Rockwell Condensed"/>
              <a:ea typeface="Rockwell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Rockwell Condensed"/>
              </a:rPr>
              <a:t>for Sensor Network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Rockwell Condensed"/>
              <a:ea typeface="Rockwell Condensed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1574360"/>
            <a:ext cx="2331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Query and Data Forward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irl_logo_yellow" descr=""/>
          <p:cNvPicPr/>
          <p:nvPr/>
        </p:nvPicPr>
        <p:blipFill>
          <a:blip r:embed="rId1"/>
          <a:stretch/>
        </p:blipFill>
        <p:spPr>
          <a:xfrm>
            <a:off x="-33480" y="37711080"/>
            <a:ext cx="2432160" cy="2432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82880" y="4010040"/>
            <a:ext cx="2331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ckwell"/>
              </a:rPr>
              <a:t>Fan Ye, Haiyun Luo, Jerry Cheng, Songwu Lu and Lixia Zhang          UC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11160" y="5597640"/>
            <a:ext cx="10603080" cy="543852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ach source builds a virtual grid and stores data at nodes close to grid cross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 mobile sink floods locally to find a grid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Queries and data traverse upper grid tier and lower cell tier in reverse directions to reach sources and sinks, respec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en the sink moves, upper tier forwarding changes incrementally, thus avoiding global flood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22560" y="19688040"/>
            <a:ext cx="11550600" cy="64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lvl="1" marL="1199160" indent="-53316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A source builds a gr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Given grid size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, the source sends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ta announcemen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 messages using geographical forwa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The node closest to a grid crossing becomes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N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 (dissemination)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99160" indent="-533160">
              <a:lnSpc>
                <a:spcPct val="100000"/>
              </a:lnSpc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A query traverses two tiers to reach the source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 sink locally floods a request within a cell size to find an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mmediate dissemination node ( IDN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query goes to the IDN node, then travels along the grid to reach the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99160" indent="-533160">
              <a:lnSpc>
                <a:spcPct val="100000"/>
              </a:lnSpc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</a:rPr>
              <a:t>Data traverse two tiers in reverse order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Data first travel along the grid to reach the ID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14760" indent="-27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n go to the sink from the ID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99160" indent="-5331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1600" y="12777840"/>
            <a:ext cx="111996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A source sends data to a sink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835320" y="33094440"/>
            <a:ext cx="9272520" cy="65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Data success ratio: the percentage of data reports that successfully reach sink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Energy consumption: the amount of energy used in transmitting and receiving messag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Delay: the average time it takes sinks to receive data report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ain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Success ratio remains high, energy consumption scales as the number of sinks or sources increases, or sinks’ moving speed increas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Robust against unexpected sensor node failures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88360" y="927720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67160" y="26939880"/>
            <a:ext cx="1101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Performance Evalu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24160" y="2853684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Success ratio vs. sink and source nu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218960" y="28498680"/>
            <a:ext cx="44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Energy vs. sink and source nu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5000" y="34394760"/>
            <a:ext cx="47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Success ratio vs. sinks’ moving sp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42960" y="34356600"/>
            <a:ext cx="39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Energy vs. sinks’ moving spee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j0149423" descr=""/>
          <p:cNvPicPr/>
          <p:nvPr/>
        </p:nvPicPr>
        <p:blipFill>
          <a:blip r:embed="rId2"/>
          <a:stretch/>
        </p:blipFill>
        <p:spPr>
          <a:xfrm>
            <a:off x="4287960" y="8636040"/>
            <a:ext cx="3135240" cy="1844640"/>
          </a:xfrm>
          <a:prstGeom prst="rect">
            <a:avLst/>
          </a:prstGeom>
          <a:ln w="0">
            <a:noFill/>
          </a:ln>
        </p:spPr>
      </p:pic>
      <p:pic>
        <p:nvPicPr>
          <p:cNvPr id="102" name="j0149428" descr=""/>
          <p:cNvPicPr/>
          <p:nvPr/>
        </p:nvPicPr>
        <p:blipFill>
          <a:blip r:embed="rId3"/>
          <a:stretch/>
        </p:blipFill>
        <p:spPr>
          <a:xfrm>
            <a:off x="10442520" y="5775480"/>
            <a:ext cx="927000" cy="1025280"/>
          </a:xfrm>
          <a:prstGeom prst="rect">
            <a:avLst/>
          </a:prstGeom>
          <a:ln w="0">
            <a:noFill/>
          </a:ln>
        </p:spPr>
      </p:pic>
      <p:pic>
        <p:nvPicPr>
          <p:cNvPr id="103" name="TR00168_" descr=""/>
          <p:cNvPicPr/>
          <p:nvPr/>
        </p:nvPicPr>
        <p:blipFill>
          <a:blip r:embed="rId4"/>
          <a:stretch/>
        </p:blipFill>
        <p:spPr>
          <a:xfrm>
            <a:off x="12173040" y="6097680"/>
            <a:ext cx="1311120" cy="1406520"/>
          </a:xfrm>
          <a:prstGeom prst="rect">
            <a:avLst/>
          </a:prstGeom>
          <a:ln w="0">
            <a:noFill/>
          </a:ln>
        </p:spPr>
      </p:pic>
      <p:pic>
        <p:nvPicPr>
          <p:cNvPr id="104" name="j0118841" descr=""/>
          <p:cNvPicPr/>
          <p:nvPr/>
        </p:nvPicPr>
        <p:blipFill>
          <a:blip r:embed="rId5"/>
          <a:stretch/>
        </p:blipFill>
        <p:spPr>
          <a:xfrm>
            <a:off x="12115800" y="8879040"/>
            <a:ext cx="825480" cy="1141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438960" y="810108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13800" y="742320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66240" y="664056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75480" y="787716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311360" y="734364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76240" y="772812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096560" y="617688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8520" y="74962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380760" y="826128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43960" y="73436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96240" y="74962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470800" y="80294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8080" y="844056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29280" y="841212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369520" y="84931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75480" y="86011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75720" y="1018080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0920" y="84488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98000" y="967104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07240" y="100202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11760" y="874548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53560" y="898200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50040" y="9591840"/>
            <a:ext cx="173160" cy="160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70800" y="875340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4920" y="1018080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34320" y="959976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948880" y="875340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23440" y="928692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87960" y="882180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93320" y="975204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7520" y="103996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366120" y="74962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00680" y="868032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91560" y="73436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619000" y="609768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68120" y="748836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71040" y="81820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44200" y="787716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96480" y="80294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355400" y="841212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69360" y="71024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739520" y="764856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998360" y="810900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255560" y="84139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91800" y="78692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146120" y="57754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282400" y="718200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671040" y="89060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15800" y="85852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96480" y="875340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29640" y="71024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23320" y="943920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96480" y="91346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085480" y="935820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948880" y="680076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999800" y="99122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619000" y="726264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877840" y="868032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914120" y="874548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942640" y="1001880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704680" y="92869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60440" y="975204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00520" y="5187960"/>
            <a:ext cx="6119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oal: Deliver data to mobile sinks without interruption, even when these sinks are in continuous mo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38760" y="7926480"/>
            <a:ext cx="1577880" cy="658800"/>
          </a:xfrm>
          <a:prstGeom prst="wedgeRoundRectCallout">
            <a:avLst>
              <a:gd name="adj1" fmla="val 40643"/>
              <a:gd name="adj2" fmla="val 108074"/>
              <a:gd name="adj3" fmla="val 16667"/>
            </a:avLst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Stimu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72400" y="10377360"/>
            <a:ext cx="1577880" cy="658800"/>
          </a:xfrm>
          <a:prstGeom prst="wedgeRoundRectCallout">
            <a:avLst>
              <a:gd name="adj1" fmla="val -19717"/>
              <a:gd name="adj2" fmla="val -143976"/>
              <a:gd name="adj3" fmla="val 16667"/>
            </a:avLst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68240" y="5267160"/>
            <a:ext cx="1577880" cy="658800"/>
          </a:xfrm>
          <a:prstGeom prst="wedgeRoundRectCallout">
            <a:avLst>
              <a:gd name="adj1" fmla="val -2615"/>
              <a:gd name="adj2" fmla="val 136745"/>
              <a:gd name="adj3" fmla="val 16667"/>
            </a:avLst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227040" y="10341000"/>
            <a:ext cx="1577880" cy="658800"/>
          </a:xfrm>
          <a:prstGeom prst="wedgeRoundRectCallout">
            <a:avLst>
              <a:gd name="adj1" fmla="val -39939"/>
              <a:gd name="adj2" fmla="val -135060"/>
              <a:gd name="adj3" fmla="val 16667"/>
            </a:avLst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207360" y="5267160"/>
            <a:ext cx="1578240" cy="658800"/>
          </a:xfrm>
          <a:prstGeom prst="wedgeRoundRectCallout">
            <a:avLst>
              <a:gd name="adj1" fmla="val 40643"/>
              <a:gd name="adj2" fmla="val 101324"/>
              <a:gd name="adj3" fmla="val 16667"/>
            </a:avLst>
          </a:prstGeom>
          <a:noFill/>
          <a:ln cap="sq"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S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961720" y="13285800"/>
            <a:ext cx="10166760" cy="6332400"/>
            <a:chOff x="2961720" y="13285800"/>
            <a:chExt cx="10166760" cy="6332400"/>
          </a:xfrm>
        </p:grpSpPr>
        <p:sp>
          <p:nvSpPr>
            <p:cNvPr id="174" name=""/>
            <p:cNvSpPr/>
            <p:nvPr/>
          </p:nvSpPr>
          <p:spPr>
            <a:xfrm>
              <a:off x="8224560" y="13839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77200" y="139921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950480" y="149889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56320" y="16676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529480" y="15249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04040" y="157827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73920" y="162478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47080" y="139921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272520" y="138398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251640" y="1467792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24800" y="143730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577080" y="14525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36000" y="149079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850320" y="135982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320120" y="141444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78960" y="146048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863000" y="13677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251640" y="154018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577080" y="15249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10240" y="135982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404280" y="159354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577080" y="156304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080" y="158544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580400" y="164084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94720" y="152413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386800" y="1456380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4640" y="186973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518560" y="17400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691720" y="159732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366280" y="1650672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6160" y="16971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09320" y="147160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434760" y="145638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414240" y="154018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587040" y="150969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739680" y="152496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414240" y="161258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739680" y="159732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72840" y="143222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566520" y="166590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39680" y="163544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510480" y="17400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04920" y="15897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57200" y="160495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0840" y="170463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36680" y="187340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09840" y="173070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84400" y="178401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54280" y="183052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7440" y="160495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52880" y="158972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2000" y="167353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57440" y="165830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16360" y="169653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30680" y="156556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0480" y="162018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59320" y="166622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43360" y="15735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32000" y="174592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7440" y="17307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90600" y="156556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84640" y="17992800"/>
              <a:ext cx="17280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57440" y="176878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46440" y="179118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60760" y="18465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5080" y="172987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7160" y="1662120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19800" y="167734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93080" y="1777032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98920" y="19458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72080" y="180306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46640" y="185641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716520" y="19029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89680" y="167734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66212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194240" y="174592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67400" y="171543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19680" y="17307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8600" y="176893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92920" y="16379640"/>
              <a:ext cx="17280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62720" y="169257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21560" y="173862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05600" y="164592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94240" y="18183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91320" y="18030600"/>
              <a:ext cx="17280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52840" y="163796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46880" y="187164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19680" y="18411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08680" y="186354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23000" y="191894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437320" y="180226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29000" y="137174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81640" y="1386972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3920" y="151272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08480" y="15660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78360" y="16125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1520" y="138697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76960" y="137174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56440" y="1455552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29240" y="142509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81880" y="144032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6440" y="152794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81880" y="151272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5040" y="134762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308720" y="15813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81880" y="155080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67280" y="151002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982240" y="18384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91120" y="15060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24520" y="13901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03520" y="141620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25440" y="151192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47960" y="151606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5680" y="135903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98840" y="132858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51120" y="134380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10040" y="13820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53000" y="135176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25680" y="143143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51120" y="141620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78320" y="14847840"/>
              <a:ext cx="17280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51120" y="145429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40120" y="147668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54440" y="153208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68760" y="141541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04920" y="1651932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51000" y="1822428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85920" y="1483812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84360" y="1343808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41880" y="1342872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72400" y="13446000"/>
              <a:ext cx="0" cy="57517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528120" y="13485600"/>
              <a:ext cx="0" cy="57517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322000" y="1340964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859760" y="179229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229760" y="170784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88600" y="175384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610560" y="1656540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662760" y="1825128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51760" y="183434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835920" y="187243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883880" y="168847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67880" y="178308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271320" y="1744488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936160" y="138697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636800" y="184910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97320" y="1798452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26120" y="14596920"/>
              <a:ext cx="17280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16680" y="1459692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559960" y="151002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366280" y="1826244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05160" y="16430400"/>
              <a:ext cx="173160" cy="160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880560" y="17317800"/>
              <a:ext cx="285480" cy="28116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61720" y="1643364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sou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1440" y="16621200"/>
              <a:ext cx="1697040" cy="193680"/>
            </a:xfrm>
            <a:custGeom>
              <a:avLst/>
              <a:gdLst/>
              <a:ahLst/>
              <a:rect l="l" t="t" r="r" b="b"/>
              <a:pathLst>
                <a:path w="768" h="96">
                  <a:moveTo>
                    <a:pt x="0" y="0"/>
                  </a:moveTo>
                  <a:cubicBezTo>
                    <a:pt x="128" y="48"/>
                    <a:pt x="256" y="96"/>
                    <a:pt x="384" y="96"/>
                  </a:cubicBezTo>
                  <a:cubicBezTo>
                    <a:pt x="512" y="96"/>
                    <a:pt x="640" y="48"/>
                    <a:pt x="768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33840" y="16641720"/>
              <a:ext cx="1538280" cy="520560"/>
            </a:xfrm>
            <a:custGeom>
              <a:avLst/>
              <a:gdLst/>
              <a:ahLst/>
              <a:rect l="l" t="t" r="r" b="b"/>
              <a:pathLst>
                <a:path w="969" h="328">
                  <a:moveTo>
                    <a:pt x="0" y="91"/>
                  </a:moveTo>
                  <a:cubicBezTo>
                    <a:pt x="104" y="192"/>
                    <a:pt x="208" y="294"/>
                    <a:pt x="347" y="311"/>
                  </a:cubicBezTo>
                  <a:cubicBezTo>
                    <a:pt x="486" y="328"/>
                    <a:pt x="728" y="244"/>
                    <a:pt x="832" y="192"/>
                  </a:cubicBezTo>
                  <a:cubicBezTo>
                    <a:pt x="936" y="140"/>
                    <a:pt x="945" y="27"/>
                    <a:pt x="969" y="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02440" y="16612920"/>
              <a:ext cx="1670040" cy="463680"/>
            </a:xfrm>
            <a:custGeom>
              <a:avLst/>
              <a:gdLst/>
              <a:ahLst/>
              <a:rect l="l" t="t" r="r" b="b"/>
              <a:pathLst>
                <a:path w="1052" h="292">
                  <a:moveTo>
                    <a:pt x="0" y="0"/>
                  </a:moveTo>
                  <a:cubicBezTo>
                    <a:pt x="78" y="91"/>
                    <a:pt x="157" y="182"/>
                    <a:pt x="293" y="228"/>
                  </a:cubicBezTo>
                  <a:cubicBezTo>
                    <a:pt x="429" y="274"/>
                    <a:pt x="688" y="292"/>
                    <a:pt x="814" y="274"/>
                  </a:cubicBezTo>
                  <a:cubicBezTo>
                    <a:pt x="940" y="256"/>
                    <a:pt x="1038" y="168"/>
                    <a:pt x="1052" y="118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50240" y="16836840"/>
              <a:ext cx="185760" cy="480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889920" y="16698960"/>
              <a:ext cx="325440" cy="609480"/>
            </a:xfrm>
            <a:custGeom>
              <a:avLst/>
              <a:gdLst/>
              <a:ahLst/>
              <a:rect l="l" t="t" r="r" b="b"/>
              <a:pathLst>
                <a:path w="205" h="384">
                  <a:moveTo>
                    <a:pt x="137" y="384"/>
                  </a:moveTo>
                  <a:cubicBezTo>
                    <a:pt x="167" y="307"/>
                    <a:pt x="197" y="230"/>
                    <a:pt x="201" y="174"/>
                  </a:cubicBezTo>
                  <a:cubicBezTo>
                    <a:pt x="205" y="118"/>
                    <a:pt x="197" y="75"/>
                    <a:pt x="164" y="46"/>
                  </a:cubicBezTo>
                  <a:cubicBezTo>
                    <a:pt x="131" y="17"/>
                    <a:pt x="27" y="8"/>
                    <a:pt x="0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9360" y="16013160"/>
              <a:ext cx="1727280" cy="468000"/>
            </a:xfrm>
            <a:custGeom>
              <a:avLst/>
              <a:gdLst/>
              <a:ahLst/>
              <a:rect l="l" t="t" r="r" b="b"/>
              <a:pathLst>
                <a:path w="1088" h="295">
                  <a:moveTo>
                    <a:pt x="1088" y="295"/>
                  </a:moveTo>
                  <a:cubicBezTo>
                    <a:pt x="1035" y="205"/>
                    <a:pt x="982" y="116"/>
                    <a:pt x="878" y="67"/>
                  </a:cubicBezTo>
                  <a:cubicBezTo>
                    <a:pt x="774" y="18"/>
                    <a:pt x="571" y="6"/>
                    <a:pt x="467" y="3"/>
                  </a:cubicBezTo>
                  <a:cubicBezTo>
                    <a:pt x="363" y="0"/>
                    <a:pt x="334" y="16"/>
                    <a:pt x="256" y="48"/>
                  </a:cubicBezTo>
                  <a:cubicBezTo>
                    <a:pt x="178" y="80"/>
                    <a:pt x="89" y="137"/>
                    <a:pt x="0" y="19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48240" y="16164000"/>
              <a:ext cx="1363680" cy="404640"/>
            </a:xfrm>
            <a:custGeom>
              <a:avLst/>
              <a:gdLst/>
              <a:ahLst/>
              <a:rect l="l" t="t" r="r" b="b"/>
              <a:pathLst>
                <a:path w="859" h="255">
                  <a:moveTo>
                    <a:pt x="859" y="118"/>
                  </a:moveTo>
                  <a:cubicBezTo>
                    <a:pt x="784" y="76"/>
                    <a:pt x="710" y="34"/>
                    <a:pt x="640" y="17"/>
                  </a:cubicBezTo>
                  <a:cubicBezTo>
                    <a:pt x="570" y="0"/>
                    <a:pt x="517" y="6"/>
                    <a:pt x="439" y="17"/>
                  </a:cubicBezTo>
                  <a:cubicBezTo>
                    <a:pt x="361" y="28"/>
                    <a:pt x="247" y="41"/>
                    <a:pt x="174" y="81"/>
                  </a:cubicBezTo>
                  <a:cubicBezTo>
                    <a:pt x="101" y="121"/>
                    <a:pt x="50" y="188"/>
                    <a:pt x="0" y="25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73280" y="16187760"/>
              <a:ext cx="1800360" cy="236520"/>
            </a:xfrm>
            <a:custGeom>
              <a:avLst/>
              <a:gdLst/>
              <a:ahLst/>
              <a:rect l="l" t="t" r="r" b="b"/>
              <a:pathLst>
                <a:path w="1134" h="149">
                  <a:moveTo>
                    <a:pt x="1134" y="149"/>
                  </a:moveTo>
                  <a:cubicBezTo>
                    <a:pt x="1069" y="104"/>
                    <a:pt x="1005" y="60"/>
                    <a:pt x="933" y="39"/>
                  </a:cubicBezTo>
                  <a:cubicBezTo>
                    <a:pt x="861" y="18"/>
                    <a:pt x="797" y="24"/>
                    <a:pt x="704" y="21"/>
                  </a:cubicBezTo>
                  <a:cubicBezTo>
                    <a:pt x="611" y="18"/>
                    <a:pt x="492" y="0"/>
                    <a:pt x="375" y="21"/>
                  </a:cubicBezTo>
                  <a:cubicBezTo>
                    <a:pt x="258" y="42"/>
                    <a:pt x="129" y="95"/>
                    <a:pt x="0" y="14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3040" y="1704168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6560" y="15516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que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36480" y="17606880"/>
              <a:ext cx="75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si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4258520" y="13214520"/>
            <a:ext cx="10534680" cy="6384600"/>
            <a:chOff x="14258520" y="13214520"/>
            <a:chExt cx="10534680" cy="6384600"/>
          </a:xfrm>
        </p:grpSpPr>
        <p:sp>
          <p:nvSpPr>
            <p:cNvPr id="339" name=""/>
            <p:cNvSpPr/>
            <p:nvPr/>
          </p:nvSpPr>
          <p:spPr>
            <a:xfrm>
              <a:off x="19521360" y="138207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674000" y="139730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247280" y="14970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9653120" y="166575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826280" y="152305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9500840" y="157640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70720" y="162291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43880" y="139730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569320" y="13820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8440" y="1465884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721600" y="143542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873880" y="145065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232800" y="14889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147120" y="135795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616920" y="141256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75760" y="145861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159800" y="136587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548440" y="153828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873880" y="152305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07040" y="135795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701080" y="159163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873880" y="156114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963240" y="158353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1877200" y="163893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791520" y="15222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83960" y="14544720"/>
              <a:ext cx="17280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61440" y="18678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15720" y="173815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58360" y="162320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3080" y="1648764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232960" y="169527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406120" y="146970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731560" y="14544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711040" y="153828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83840" y="150782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036480" y="152305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711040" y="16106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036480" y="159544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769640" y="143035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863320" y="166402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036480" y="163353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807280" y="173815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301720" y="158781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54360" y="160304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027640" y="170276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433480" y="187149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606640" y="172879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281200" y="178214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51080" y="182865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024240" y="1603044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349680" y="158781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328800" y="167162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654240" y="165639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013160" y="16946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927480" y="156369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397280" y="161830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656120" y="166435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40160" y="157161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28800" y="174402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654240" y="172879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387400" y="156369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481440" y="17973720"/>
              <a:ext cx="17280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654240" y="176688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743240" y="17892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657560" y="184467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571880" y="17280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463960" y="1660212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616600" y="167544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89880" y="17751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595720" y="194389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768880" y="180118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443440" y="185450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013320" y="190101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186480" y="167544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511920" y="166021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491040" y="174402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664200" y="17135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16480" y="172879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175400" y="17670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089720" y="1636092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59520" y="169070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818360" y="173671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102400" y="164401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491040" y="181641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888120" y="1801188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549640" y="163609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643680" y="186976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816480" y="183927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905840" y="186166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819800" y="19170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734120" y="180039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426160" y="136983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7578440" y="13851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730720" y="151081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405280" y="15641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975160" y="161067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148320" y="13851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73760" y="136983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453240" y="1453680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626040" y="142318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778680" y="143841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453240" y="15260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78680" y="1510812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511840" y="134571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605520" y="157939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778680" y="154893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164080" y="150811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279040" y="1836576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088280" y="1504152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221320" y="1388268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800320" y="141429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322600" y="1510020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044760" y="15141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522480" y="1357164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695640" y="13266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847920" y="134190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206840" y="1380168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49800" y="134985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522480" y="14295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5847920" y="141429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75120" y="14828760"/>
              <a:ext cx="17280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847920" y="145242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6936920" y="1474776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51240" y="1530180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765560" y="1413504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4301720" y="1650060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347800" y="1820556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4382720" y="14819400"/>
              <a:ext cx="10042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5581160" y="13419000"/>
              <a:ext cx="0" cy="57517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338680" y="1340964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069200" y="13426920"/>
              <a:ext cx="0" cy="57517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824920" y="1346688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18800" y="13390560"/>
              <a:ext cx="0" cy="5751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156560" y="1790388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1526560" y="1705932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1785400" y="175197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907360" y="1654668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959920" y="18232560"/>
              <a:ext cx="17280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48560" y="18324360"/>
              <a:ext cx="17280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132720" y="187056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180680" y="1686564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64680" y="178117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68120" y="17426160"/>
              <a:ext cx="17280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3232960" y="1385100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33600" y="18472320"/>
              <a:ext cx="173160" cy="160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394120" y="1796580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422920" y="14577840"/>
              <a:ext cx="17280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113480" y="14577840"/>
              <a:ext cx="173160" cy="160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56760" y="15081120"/>
              <a:ext cx="173160" cy="16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663080" y="18243720"/>
              <a:ext cx="173160" cy="160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501960" y="16411680"/>
              <a:ext cx="173160" cy="160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177360" y="17299080"/>
              <a:ext cx="285480" cy="280800"/>
            </a:xfrm>
            <a:prstGeom prst="triangle">
              <a:avLst>
                <a:gd name="adj" fmla="val 50000"/>
              </a:avLst>
            </a:prstGeom>
            <a:solidFill>
              <a:srgbClr val="ff7c80">
                <a:alpha val="50000"/>
              </a:srgbClr>
            </a:solidFill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258520" y="164149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sour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708240" y="16602120"/>
              <a:ext cx="1697040" cy="193680"/>
            </a:xfrm>
            <a:custGeom>
              <a:avLst/>
              <a:gdLst/>
              <a:ahLst/>
              <a:rect l="l" t="t" r="r" b="b"/>
              <a:pathLst>
                <a:path w="768" h="96">
                  <a:moveTo>
                    <a:pt x="0" y="0"/>
                  </a:moveTo>
                  <a:cubicBezTo>
                    <a:pt x="128" y="48"/>
                    <a:pt x="256" y="96"/>
                    <a:pt x="384" y="96"/>
                  </a:cubicBezTo>
                  <a:cubicBezTo>
                    <a:pt x="512" y="96"/>
                    <a:pt x="640" y="48"/>
                    <a:pt x="768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30640" y="16622640"/>
              <a:ext cx="1538280" cy="520920"/>
            </a:xfrm>
            <a:custGeom>
              <a:avLst/>
              <a:gdLst/>
              <a:ahLst/>
              <a:rect l="l" t="t" r="r" b="b"/>
              <a:pathLst>
                <a:path w="969" h="328">
                  <a:moveTo>
                    <a:pt x="0" y="91"/>
                  </a:moveTo>
                  <a:cubicBezTo>
                    <a:pt x="104" y="192"/>
                    <a:pt x="208" y="294"/>
                    <a:pt x="347" y="311"/>
                  </a:cubicBezTo>
                  <a:cubicBezTo>
                    <a:pt x="486" y="328"/>
                    <a:pt x="728" y="244"/>
                    <a:pt x="832" y="192"/>
                  </a:cubicBezTo>
                  <a:cubicBezTo>
                    <a:pt x="936" y="140"/>
                    <a:pt x="945" y="27"/>
                    <a:pt x="969" y="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9299240" y="16594200"/>
              <a:ext cx="1670040" cy="463320"/>
            </a:xfrm>
            <a:custGeom>
              <a:avLst/>
              <a:gdLst/>
              <a:ahLst/>
              <a:rect l="l" t="t" r="r" b="b"/>
              <a:pathLst>
                <a:path w="1052" h="292">
                  <a:moveTo>
                    <a:pt x="0" y="0"/>
                  </a:moveTo>
                  <a:cubicBezTo>
                    <a:pt x="78" y="91"/>
                    <a:pt x="157" y="182"/>
                    <a:pt x="293" y="228"/>
                  </a:cubicBezTo>
                  <a:cubicBezTo>
                    <a:pt x="429" y="274"/>
                    <a:pt x="688" y="292"/>
                    <a:pt x="814" y="274"/>
                  </a:cubicBezTo>
                  <a:cubicBezTo>
                    <a:pt x="940" y="256"/>
                    <a:pt x="1038" y="168"/>
                    <a:pt x="1052" y="118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226160" y="15994080"/>
              <a:ext cx="1727280" cy="468360"/>
            </a:xfrm>
            <a:custGeom>
              <a:avLst/>
              <a:gdLst/>
              <a:ahLst/>
              <a:rect l="l" t="t" r="r" b="b"/>
              <a:pathLst>
                <a:path w="1088" h="295">
                  <a:moveTo>
                    <a:pt x="1088" y="295"/>
                  </a:moveTo>
                  <a:cubicBezTo>
                    <a:pt x="1035" y="205"/>
                    <a:pt x="982" y="116"/>
                    <a:pt x="878" y="67"/>
                  </a:cubicBezTo>
                  <a:cubicBezTo>
                    <a:pt x="774" y="18"/>
                    <a:pt x="571" y="6"/>
                    <a:pt x="467" y="3"/>
                  </a:cubicBezTo>
                  <a:cubicBezTo>
                    <a:pt x="363" y="0"/>
                    <a:pt x="334" y="16"/>
                    <a:pt x="256" y="48"/>
                  </a:cubicBezTo>
                  <a:cubicBezTo>
                    <a:pt x="178" y="80"/>
                    <a:pt x="89" y="137"/>
                    <a:pt x="0" y="19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7645040" y="16144920"/>
              <a:ext cx="1363680" cy="404640"/>
            </a:xfrm>
            <a:custGeom>
              <a:avLst/>
              <a:gdLst/>
              <a:ahLst/>
              <a:rect l="l" t="t" r="r" b="b"/>
              <a:pathLst>
                <a:path w="859" h="255">
                  <a:moveTo>
                    <a:pt x="859" y="118"/>
                  </a:moveTo>
                  <a:cubicBezTo>
                    <a:pt x="784" y="76"/>
                    <a:pt x="710" y="34"/>
                    <a:pt x="640" y="17"/>
                  </a:cubicBezTo>
                  <a:cubicBezTo>
                    <a:pt x="570" y="0"/>
                    <a:pt x="517" y="6"/>
                    <a:pt x="439" y="17"/>
                  </a:cubicBezTo>
                  <a:cubicBezTo>
                    <a:pt x="361" y="28"/>
                    <a:pt x="247" y="41"/>
                    <a:pt x="174" y="81"/>
                  </a:cubicBezTo>
                  <a:cubicBezTo>
                    <a:pt x="101" y="121"/>
                    <a:pt x="50" y="188"/>
                    <a:pt x="0" y="255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670080" y="16168680"/>
              <a:ext cx="1800360" cy="236520"/>
            </a:xfrm>
            <a:custGeom>
              <a:avLst/>
              <a:gdLst/>
              <a:ahLst/>
              <a:rect l="l" t="t" r="r" b="b"/>
              <a:pathLst>
                <a:path w="1134" h="149">
                  <a:moveTo>
                    <a:pt x="1134" y="149"/>
                  </a:moveTo>
                  <a:cubicBezTo>
                    <a:pt x="1069" y="104"/>
                    <a:pt x="1005" y="60"/>
                    <a:pt x="933" y="39"/>
                  </a:cubicBezTo>
                  <a:cubicBezTo>
                    <a:pt x="861" y="18"/>
                    <a:pt x="797" y="24"/>
                    <a:pt x="704" y="21"/>
                  </a:cubicBezTo>
                  <a:cubicBezTo>
                    <a:pt x="611" y="18"/>
                    <a:pt x="492" y="0"/>
                    <a:pt x="375" y="21"/>
                  </a:cubicBezTo>
                  <a:cubicBezTo>
                    <a:pt x="258" y="42"/>
                    <a:pt x="129" y="95"/>
                    <a:pt x="0" y="14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7619840" y="1702260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683360" y="154972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que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933080" y="15482880"/>
              <a:ext cx="186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sink move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he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671000" y="15673320"/>
              <a:ext cx="285840" cy="28116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104280" y="16691040"/>
              <a:ext cx="1523880" cy="280800"/>
            </a:xfrm>
            <a:custGeom>
              <a:avLst/>
              <a:gdLst/>
              <a:ahLst/>
              <a:rect l="l" t="t" r="r" b="b"/>
              <a:pathLst>
                <a:path w="960" h="177">
                  <a:moveTo>
                    <a:pt x="0" y="19"/>
                  </a:moveTo>
                  <a:cubicBezTo>
                    <a:pt x="102" y="77"/>
                    <a:pt x="204" y="135"/>
                    <a:pt x="311" y="156"/>
                  </a:cubicBezTo>
                  <a:cubicBezTo>
                    <a:pt x="418" y="177"/>
                    <a:pt x="532" y="173"/>
                    <a:pt x="640" y="147"/>
                  </a:cubicBezTo>
                  <a:cubicBezTo>
                    <a:pt x="748" y="121"/>
                    <a:pt x="854" y="60"/>
                    <a:pt x="960" y="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2815720" y="15973200"/>
              <a:ext cx="41040" cy="4158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494960" y="15892560"/>
              <a:ext cx="176040" cy="523800"/>
            </a:xfrm>
            <a:custGeom>
              <a:avLst/>
              <a:gdLst/>
              <a:ahLst/>
              <a:rect l="l" t="t" r="r" b="b"/>
              <a:pathLst>
                <a:path w="111" h="330">
                  <a:moveTo>
                    <a:pt x="102" y="0"/>
                  </a:moveTo>
                  <a:cubicBezTo>
                    <a:pt x="62" y="24"/>
                    <a:pt x="22" y="48"/>
                    <a:pt x="11" y="92"/>
                  </a:cubicBezTo>
                  <a:cubicBezTo>
                    <a:pt x="0" y="136"/>
                    <a:pt x="21" y="226"/>
                    <a:pt x="38" y="266"/>
                  </a:cubicBezTo>
                  <a:cubicBezTo>
                    <a:pt x="55" y="306"/>
                    <a:pt x="83" y="318"/>
                    <a:pt x="111" y="33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045600" y="16095600"/>
              <a:ext cx="1509480" cy="378000"/>
            </a:xfrm>
            <a:custGeom>
              <a:avLst/>
              <a:gdLst/>
              <a:ahLst/>
              <a:rect l="l" t="t" r="r" b="b"/>
              <a:pathLst>
                <a:path w="951" h="238">
                  <a:moveTo>
                    <a:pt x="951" y="229"/>
                  </a:moveTo>
                  <a:cubicBezTo>
                    <a:pt x="900" y="170"/>
                    <a:pt x="850" y="112"/>
                    <a:pt x="768" y="74"/>
                  </a:cubicBezTo>
                  <a:cubicBezTo>
                    <a:pt x="686" y="36"/>
                    <a:pt x="553" y="0"/>
                    <a:pt x="457" y="0"/>
                  </a:cubicBezTo>
                  <a:cubicBezTo>
                    <a:pt x="361" y="0"/>
                    <a:pt x="268" y="34"/>
                    <a:pt x="192" y="74"/>
                  </a:cubicBezTo>
                  <a:cubicBezTo>
                    <a:pt x="116" y="114"/>
                    <a:pt x="58" y="176"/>
                    <a:pt x="0" y="238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781560" y="13873320"/>
              <a:ext cx="285840" cy="280800"/>
            </a:xfrm>
            <a:prstGeom prst="triangle">
              <a:avLst>
                <a:gd name="adj" fmla="val 50000"/>
              </a:avLst>
            </a:prstGeom>
            <a:solidFill>
              <a:srgbClr val="ff7c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59920" y="1321452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aggadocio"/>
                </a:rPr>
                <a:t>another si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143720" y="14717880"/>
              <a:ext cx="393480" cy="1538280"/>
            </a:xfrm>
            <a:custGeom>
              <a:avLst/>
              <a:gdLst/>
              <a:ahLst/>
              <a:rect l="l" t="t" r="r" b="b"/>
              <a:pathLst>
                <a:path w="248" h="969">
                  <a:moveTo>
                    <a:pt x="0" y="969"/>
                  </a:moveTo>
                  <a:cubicBezTo>
                    <a:pt x="87" y="844"/>
                    <a:pt x="174" y="719"/>
                    <a:pt x="211" y="603"/>
                  </a:cubicBezTo>
                  <a:cubicBezTo>
                    <a:pt x="248" y="487"/>
                    <a:pt x="238" y="374"/>
                    <a:pt x="220" y="274"/>
                  </a:cubicBezTo>
                  <a:cubicBezTo>
                    <a:pt x="202" y="174"/>
                    <a:pt x="151" y="87"/>
                    <a:pt x="101" y="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86480" y="14034960"/>
              <a:ext cx="220680" cy="465120"/>
            </a:xfrm>
            <a:custGeom>
              <a:avLst/>
              <a:gdLst/>
              <a:ahLst/>
              <a:rect l="l" t="t" r="r" b="b"/>
              <a:pathLst>
                <a:path w="139" h="293">
                  <a:moveTo>
                    <a:pt x="119" y="293"/>
                  </a:moveTo>
                  <a:cubicBezTo>
                    <a:pt x="129" y="207"/>
                    <a:pt x="139" y="122"/>
                    <a:pt x="119" y="73"/>
                  </a:cubicBezTo>
                  <a:cubicBezTo>
                    <a:pt x="99" y="24"/>
                    <a:pt x="20" y="14"/>
                    <a:pt x="0" y="0"/>
                  </a:cubicBezTo>
                </a:path>
              </a:pathLst>
            </a:custGeom>
            <a:noFill/>
            <a:ln cap="sq"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870480" y="14209560"/>
              <a:ext cx="216000" cy="463680"/>
            </a:xfrm>
            <a:custGeom>
              <a:avLst/>
              <a:gdLst/>
              <a:ahLst/>
              <a:rect l="l" t="t" r="r" b="b"/>
              <a:pathLst>
                <a:path w="136" h="292">
                  <a:moveTo>
                    <a:pt x="35" y="0"/>
                  </a:moveTo>
                  <a:cubicBezTo>
                    <a:pt x="17" y="85"/>
                    <a:pt x="0" y="170"/>
                    <a:pt x="17" y="219"/>
                  </a:cubicBezTo>
                  <a:cubicBezTo>
                    <a:pt x="34" y="268"/>
                    <a:pt x="133" y="263"/>
                    <a:pt x="136" y="292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680040" y="14760720"/>
              <a:ext cx="434880" cy="1481040"/>
            </a:xfrm>
            <a:custGeom>
              <a:avLst/>
              <a:gdLst/>
              <a:ahLst/>
              <a:rect l="l" t="t" r="r" b="b"/>
              <a:pathLst>
                <a:path w="274" h="933">
                  <a:moveTo>
                    <a:pt x="274" y="0"/>
                  </a:moveTo>
                  <a:cubicBezTo>
                    <a:pt x="185" y="90"/>
                    <a:pt x="96" y="180"/>
                    <a:pt x="55" y="284"/>
                  </a:cubicBezTo>
                  <a:cubicBezTo>
                    <a:pt x="14" y="388"/>
                    <a:pt x="0" y="514"/>
                    <a:pt x="27" y="622"/>
                  </a:cubicBezTo>
                  <a:cubicBezTo>
                    <a:pt x="54" y="730"/>
                    <a:pt x="136" y="831"/>
                    <a:pt x="219" y="933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4266800" y="19631160"/>
            <a:ext cx="11550600" cy="71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f a sink m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t locally floods a new request to find a new ID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 query goes to the IDN nodes, then to the direction of the source along the g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query stops at a DN that is already receiv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  <a:ea typeface="Arial"/>
              </a:rPr>
              <a:t>Multiple sinks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Each sink finds its IDN n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Each sink sends a query upstream to the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Data flow to a sink when its query reaches a DN that is already receiving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013000" y="12701520"/>
            <a:ext cx="1119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The  sink moves and another sink app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4" name="scalability_success_ratio" descr=""/>
          <p:cNvPicPr/>
          <p:nvPr/>
        </p:nvPicPr>
        <p:blipFill>
          <a:blip r:embed="rId6"/>
          <a:srcRect l="8843" t="29200" r="7394" b="23444"/>
          <a:stretch/>
        </p:blipFill>
        <p:spPr>
          <a:xfrm>
            <a:off x="3071880" y="29170440"/>
            <a:ext cx="5994360" cy="4795560"/>
          </a:xfrm>
          <a:prstGeom prst="rect">
            <a:avLst/>
          </a:prstGeom>
          <a:ln w="0">
            <a:noFill/>
          </a:ln>
        </p:spPr>
      </p:pic>
      <p:pic>
        <p:nvPicPr>
          <p:cNvPr id="515" name="scalability_avg_energy" descr=""/>
          <p:cNvPicPr/>
          <p:nvPr/>
        </p:nvPicPr>
        <p:blipFill>
          <a:blip r:embed="rId7"/>
          <a:srcRect l="6846" t="29069" r="6661" b="23366"/>
          <a:stretch/>
        </p:blipFill>
        <p:spPr>
          <a:xfrm>
            <a:off x="9518760" y="29206800"/>
            <a:ext cx="6114960" cy="4759200"/>
          </a:xfrm>
          <a:prstGeom prst="rect">
            <a:avLst/>
          </a:prstGeom>
          <a:ln w="0">
            <a:noFill/>
          </a:ln>
        </p:spPr>
      </p:pic>
      <p:pic>
        <p:nvPicPr>
          <p:cNvPr id="516" name="mobility_sucess_ratio" descr=""/>
          <p:cNvPicPr/>
          <p:nvPr/>
        </p:nvPicPr>
        <p:blipFill>
          <a:blip r:embed="rId8"/>
          <a:srcRect l="9434" t="29679" r="6284" b="23501"/>
          <a:stretch/>
        </p:blipFill>
        <p:spPr>
          <a:xfrm>
            <a:off x="3071880" y="34982280"/>
            <a:ext cx="5981760" cy="4603680"/>
          </a:xfrm>
          <a:prstGeom prst="rect">
            <a:avLst/>
          </a:prstGeom>
          <a:ln w="0">
            <a:noFill/>
          </a:ln>
        </p:spPr>
      </p:pic>
      <p:pic>
        <p:nvPicPr>
          <p:cNvPr id="517" name="mobility_avg_energy" descr=""/>
          <p:cNvPicPr/>
          <p:nvPr/>
        </p:nvPicPr>
        <p:blipFill>
          <a:blip r:embed="rId9"/>
          <a:srcRect l="7037" t="29335" r="6218" b="23457"/>
          <a:stretch/>
        </p:blipFill>
        <p:spPr>
          <a:xfrm>
            <a:off x="9766440" y="34982280"/>
            <a:ext cx="5976720" cy="460368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4554080" y="25377840"/>
            <a:ext cx="98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Grid Maintenanc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035040" y="27150840"/>
            <a:ext cx="927288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825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300" spc="-1" strike="noStrike">
                <a:solidFill>
                  <a:srgbClr val="ffff99"/>
                </a:solidFill>
                <a:latin typeface="Arial"/>
                <a:ea typeface="Arial"/>
              </a:rPr>
              <a:t>Upstream information duplication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Each DN replicates its upstream DN’s location, ID, etc. at its neighb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A query is forwarded to the upstream DN by one of the neighbors of a failed D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Arial"/>
              </a:rPr>
              <a:t>A data report is forwarded to three other downstream directions, and only those need data send back queries to restore forwarding st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1T20:55:08Z</dcterms:created>
  <dc:creator>Internet Research Lab</dc:creator>
  <dc:description/>
  <dc:language>en-US</dc:language>
  <cp:lastModifiedBy>yefan</cp:lastModifiedBy>
  <cp:lastPrinted>1999-05-01T01:17:05Z</cp:lastPrinted>
  <dcterms:modified xsi:type="dcterms:W3CDTF">2002-10-30T19:58:16Z</dcterms:modified>
  <cp:revision>165</cp:revision>
  <dc:subject/>
  <dc:title>Information Discovery Graph</dc:title>
</cp:coreProperties>
</file>