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25603200" cy="40233600"/>
  <p:notesSz cx="24688800" cy="39319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2304252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0160" y="21602520"/>
            <a:ext cx="2304252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0160" y="2160252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087440" y="2160252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071280" y="941436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862040" y="941436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80160" y="2160252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071280" y="2160252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6862040" y="2160252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424-E1AD-4C7D-8FBC-8D189807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0160" y="9414360"/>
            <a:ext cx="2304252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7BA-C1B6-4CD0-B147-0CA7B932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2304252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5C79-58FF-4D2D-8B1E-00AB9DF5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59B-B78D-4D0E-9D72-35F24949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222-5268-42A9-BD9B-F3BEF3C6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80160" y="1605240"/>
            <a:ext cx="23042520" cy="31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05CF-0CDF-422E-88DC-FD141562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80160" y="2160252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C8B-3EFA-49BA-B941-343B8E74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80160" y="9414360"/>
            <a:ext cx="2304252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300"/>
              </a:spcBef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087440" y="2160252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C6C-338F-42CA-A592-DD728084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80160" y="21602520"/>
            <a:ext cx="2304252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2C5-5167-4EC9-8F49-3C05C121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2304252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80160" y="21602520"/>
            <a:ext cx="2304252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938-2A79-44CA-BB25-FE0D3CB2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80160" y="2160252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3087440" y="2160252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278-9C30-4FC2-9A7B-EECF9B0A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071280" y="941436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862040" y="941436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80160" y="2160252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9071280" y="2160252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16862040" y="21602520"/>
            <a:ext cx="7419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2CAA-6FAD-4154-AE2A-9F0544E8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2304252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80160" y="1605240"/>
            <a:ext cx="23042520" cy="31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300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80160" y="2160252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087440" y="2160252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087440" y="9414360"/>
            <a:ext cx="1124460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80160" y="21602520"/>
            <a:ext cx="23042520" cy="11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300"/>
              </a:spcBef>
              <a:buNone/>
              <a:tabLst>
                <a:tab algn="l" pos="3762360"/>
                <a:tab algn="l" pos="7524720"/>
              </a:tabLst>
            </a:pP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2330280" cy="4023360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25599960" cy="40971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04920" y="3962520"/>
            <a:ext cx="1866960" cy="334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I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N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T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E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R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N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E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T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R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E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S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E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A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R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C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H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L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A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13900" spc="-1" strike="noStrike">
                <a:solidFill>
                  <a:srgbClr val="ffffff"/>
                </a:solidFill>
                <a:latin typeface="Rockwell Condensed"/>
                <a:ea typeface="PMingLiU"/>
              </a:rPr>
              <a:t>B</a:t>
            </a:r>
            <a:endParaRPr b="0" lang="en-US" sz="13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0160" y="1605240"/>
            <a:ext cx="23042520" cy="671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181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80160" y="9414360"/>
            <a:ext cx="23042520" cy="233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11200" indent="-1411200">
              <a:spcBef>
                <a:spcPts val="33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762360"/>
                <a:tab algn="l" pos="7524720"/>
              </a:tabLst>
            </a:pPr>
            <a:r>
              <a:rPr b="1" lang="en-US" sz="1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3200" spc="-1" strike="noStrike">
              <a:solidFill>
                <a:srgbClr val="ffffff"/>
              </a:solidFill>
              <a:latin typeface="Arial"/>
            </a:endParaRPr>
          </a:p>
          <a:p>
            <a:pPr lvl="1" marL="3057480" indent="-1177920">
              <a:spcBef>
                <a:spcPts val="2874"/>
              </a:spcBef>
              <a:buClr>
                <a:srgbClr val="ffffff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11500" spc="-1" strike="noStrike">
              <a:solidFill>
                <a:srgbClr val="ffffff"/>
              </a:solidFill>
              <a:latin typeface="Arial"/>
            </a:endParaRPr>
          </a:p>
          <a:p>
            <a:pPr lvl="2" marL="4703760" indent="-941400">
              <a:spcBef>
                <a:spcPts val="2449"/>
              </a:spcBef>
              <a:buClr>
                <a:srgbClr val="00ffcc"/>
              </a:buClr>
              <a:buFont typeface="Arial"/>
              <a:buChar char="•"/>
              <a:tabLst>
                <a:tab algn="l" pos="7524720"/>
              </a:tabLst>
            </a:pPr>
            <a:r>
              <a:rPr b="1" lang="en-US" sz="9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9800" spc="-1" strike="noStrike">
              <a:solidFill>
                <a:srgbClr val="ffffff"/>
              </a:solidFill>
              <a:latin typeface="Arial"/>
            </a:endParaRPr>
          </a:p>
          <a:p>
            <a:pPr lvl="3" marL="6583320" indent="-941400">
              <a:spcBef>
                <a:spcPts val="2075"/>
              </a:spcBef>
              <a:buClr>
                <a:srgbClr val="ffffff"/>
              </a:buClr>
              <a:buFont typeface="Arial"/>
              <a:buChar char="–"/>
              <a:tabLst>
                <a:tab algn="l" pos="7524720"/>
              </a:tabLst>
            </a:pPr>
            <a:r>
              <a:rPr b="1" lang="en-US" sz="8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8300" spc="-1" strike="noStrike">
              <a:solidFill>
                <a:srgbClr val="ffffff"/>
              </a:solidFill>
              <a:latin typeface="Arial"/>
            </a:endParaRPr>
          </a:p>
          <a:p>
            <a:pPr lvl="4" marL="8464680" indent="-939960">
              <a:spcBef>
                <a:spcPts val="2075"/>
              </a:spcBef>
              <a:buClr>
                <a:srgbClr val="00ffcc"/>
              </a:buClr>
              <a:buFont typeface="Arial"/>
              <a:buChar char="•"/>
            </a:pPr>
            <a:r>
              <a:rPr b="1" lang="en-US" sz="8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8300" spc="-1" strike="noStrike">
              <a:solidFill>
                <a:srgbClr val="ffffff"/>
              </a:solidFill>
              <a:latin typeface="Arial"/>
            </a:endParaRPr>
          </a:p>
          <a:p>
            <a:pPr lvl="5" marL="8464680" indent="-939960">
              <a:spcBef>
                <a:spcPts val="20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8300" spc="-1" strike="noStrike">
              <a:solidFill>
                <a:srgbClr val="ffffff"/>
              </a:solidFill>
              <a:latin typeface="Arial"/>
            </a:endParaRPr>
          </a:p>
          <a:p>
            <a:pPr lvl="6" marL="8464680" indent="-939960">
              <a:spcBef>
                <a:spcPts val="20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8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0"/>
            <a:ext cx="4054680" cy="4022424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20960" y="14304960"/>
            <a:ext cx="23679000" cy="447048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20960" y="13410720"/>
            <a:ext cx="21761280" cy="6705720"/>
          </a:xfrm>
          <a:prstGeom prst="rect">
            <a:avLst/>
          </a:prstGeom>
          <a:noFill/>
          <a:ln w="0">
            <a:noFill/>
          </a:ln>
        </p:spPr>
        <p:txBody>
          <a:bodyPr lIns="378720" rIns="378720" tIns="189360" bIns="189360" anchor="ctr">
            <a:noAutofit/>
          </a:bodyPr>
          <a:p>
            <a:pPr indent="0" algn="ctr">
              <a:buNone/>
              <a:tabLst>
                <a:tab algn="l" pos="0"/>
                <a:tab algn="l" pos="3762360"/>
                <a:tab algn="l" pos="7524720"/>
              </a:tabLst>
            </a:pPr>
            <a:r>
              <a:rPr b="0" lang="en-US" sz="181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181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1920960" y="36208800"/>
            <a:ext cx="5333760" cy="2683080"/>
          </a:xfrm>
          <a:prstGeom prst="rect">
            <a:avLst/>
          </a:prstGeom>
          <a:noFill/>
          <a:ln w="0">
            <a:noFill/>
          </a:ln>
        </p:spPr>
        <p:txBody>
          <a:bodyPr lIns="378720" rIns="378720" tIns="189360" bIns="189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8747280" y="36208800"/>
            <a:ext cx="8108640" cy="2683080"/>
          </a:xfrm>
          <a:prstGeom prst="rect">
            <a:avLst/>
          </a:prstGeom>
          <a:noFill/>
          <a:ln w="0">
            <a:noFill/>
          </a:ln>
        </p:spPr>
        <p:txBody>
          <a:bodyPr lIns="378720" rIns="378720" tIns="189360" bIns="189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18348480" y="36208800"/>
            <a:ext cx="5333760" cy="2683080"/>
          </a:xfrm>
          <a:prstGeom prst="rect">
            <a:avLst/>
          </a:prstGeom>
          <a:noFill/>
          <a:ln w="0">
            <a:noFill/>
          </a:ln>
        </p:spPr>
        <p:txBody>
          <a:bodyPr lIns="378720" rIns="378720" tIns="189360" bIns="189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0562840"/>
            <a:ext cx="13227120" cy="89532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427120" y="2824200"/>
            <a:ext cx="5040" cy="85680"/>
          </a:xfrm>
          <a:prstGeom prst="rect">
            <a:avLst/>
          </a:prstGeom>
          <a:solidFill>
            <a:srgbClr val="ffa8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65280" y="2824200"/>
            <a:ext cx="5040" cy="85680"/>
          </a:xfrm>
          <a:prstGeom prst="rect">
            <a:avLst/>
          </a:prstGeom>
          <a:solidFill>
            <a:srgbClr val="ffb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79760" y="2976480"/>
            <a:ext cx="4680" cy="85680"/>
          </a:xfrm>
          <a:prstGeom prst="rect">
            <a:avLst/>
          </a:prstGeom>
          <a:solidFill>
            <a:srgbClr val="ffa8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3520" y="838080"/>
            <a:ext cx="243838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Rockwell Condensed"/>
              </a:rPr>
              <a:t>PEAS: A Robust Energy-conserving Protocol 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Rockwell Condensed"/>
              <a:ea typeface="Rockwell Condens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6dcac"/>
                    </a:gs>
                    <a:gs pos="100000">
                      <a:srgbClr val="e6dcac"/>
                    </a:gs>
                  </a:gsLst>
                  <a:lin ang="13500000"/>
                </a:gradFill>
                <a:latin typeface="Rockwell Condensed"/>
              </a:rPr>
              <a:t>for Sensor Network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13500000"/>
              </a:gradFill>
              <a:latin typeface="Rockwell Condensed"/>
              <a:ea typeface="Rockwell Condensed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10698120"/>
            <a:ext cx="2331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Palatino"/>
              </a:rPr>
              <a:t>Probing Environment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00480" y="20139120"/>
            <a:ext cx="1101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Palatino"/>
              </a:rPr>
              <a:t>Adaptive Sleeping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irl_logo_yellow" descr=""/>
          <p:cNvPicPr/>
          <p:nvPr/>
        </p:nvPicPr>
        <p:blipFill>
          <a:blip r:embed="rId1"/>
          <a:stretch/>
        </p:blipFill>
        <p:spPr>
          <a:xfrm>
            <a:off x="-33480" y="37711080"/>
            <a:ext cx="2432160" cy="2432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0" y="4010040"/>
            <a:ext cx="2331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ockwell"/>
              </a:rPr>
              <a:t>Fan Ye, Gary Zhong, Songwu Lu and Lixia Zhang                    UCL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17720" y="5292720"/>
            <a:ext cx="10603080" cy="5438880"/>
          </a:xfrm>
          <a:prstGeom prst="rect">
            <a:avLst/>
          </a:prstGeom>
          <a:gradFill rotWithShape="0">
            <a:gsLst>
              <a:gs pos="0">
                <a:srgbClr val="005e75"/>
              </a:gs>
              <a:gs pos="100000">
                <a:srgbClr val="00ccff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31880" indent="-731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31880" indent="-7318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Extends a sensor network’s lifetime many times longer than those of individual sensor n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31880" indent="-731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Me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31880" indent="-7318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Deploy sensor nodes at densities much higher than needed for normal op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31880" indent="-7318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Keep a subset working while turning off ot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31880" indent="-7318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leeping nodes replace failed or energy-exhausted ones when necessa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31880" indent="-731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360"/>
                <a:tab algn="l" pos="75247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68440" y="5292720"/>
            <a:ext cx="10602720" cy="5438880"/>
          </a:xfrm>
          <a:prstGeom prst="rect">
            <a:avLst/>
          </a:prstGeom>
          <a:gradFill rotWithShape="0">
            <a:gsLst>
              <a:gs pos="0">
                <a:srgbClr val="005e75"/>
              </a:gs>
              <a:gs pos="100000">
                <a:srgbClr val="00ccff"/>
              </a:gs>
            </a:gsLst>
            <a:lin ang="5400000"/>
          </a:gra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31880" indent="-731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731880" indent="-7318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Nodes are prone to unexpected failures in a harsh or hostile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432080" indent="-586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he protocol has to be robust against such fail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731880" indent="-7318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Nodes may have stringent memory, computing re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432080" indent="-586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The protocol has to be very light-weight to run on small, simple sensor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84400" y="22622040"/>
            <a:ext cx="11550600" cy="64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1249200" indent="-5554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Why it is necessar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890720" indent="-289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bings are needed to find and replace dead working n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890720" indent="-289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bings consume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890720" indent="-289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Keep the probing rate high enough to replace dead working ones on time, but not to consume too much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49200" indent="-5554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890720" indent="-289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A working node measures the aggregate probing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890720" indent="-289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iggyback the measured rate in REPLY mess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890720" indent="-289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Probing nodes adjusts their rates accordin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58960" y="21388320"/>
            <a:ext cx="111999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Keep the aggregate probing rate of a working node’s probing neighbors at some constant leve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694200" y="30427560"/>
            <a:ext cx="9272520" cy="88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1249200" indent="-5554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Me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716120" indent="-352440">
              <a:lnSpc>
                <a:spcPct val="100000"/>
              </a:lnSpc>
              <a:spcBef>
                <a:spcPts val="675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700" spc="-1" strike="noStrike">
                <a:solidFill>
                  <a:srgbClr val="ffff99"/>
                </a:solidFill>
                <a:latin typeface="Arial"/>
              </a:rPr>
              <a:t>Data delivery lifetime: when success ratio fells below a threshold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716120" indent="-352440">
              <a:lnSpc>
                <a:spcPct val="100000"/>
              </a:lnSpc>
              <a:spcBef>
                <a:spcPts val="675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700" spc="-1" strike="noStrike">
                <a:solidFill>
                  <a:srgbClr val="ffff99"/>
                </a:solidFill>
                <a:latin typeface="Arial"/>
              </a:rPr>
              <a:t>Sensing coverage lifetime: when coverage ratio fells below a certain threshold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716120" indent="-352440">
              <a:lnSpc>
                <a:spcPct val="100000"/>
              </a:lnSpc>
              <a:spcBef>
                <a:spcPts val="675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700" spc="-1" strike="noStrike">
                <a:solidFill>
                  <a:srgbClr val="ffff99"/>
                </a:solidFill>
                <a:latin typeface="Arial"/>
              </a:rPr>
              <a:t>Energy overhead: energy consumed in protocol operations, including PROBE and REPLY messag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1249200" indent="-5554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Main res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716120" indent="-352440">
              <a:lnSpc>
                <a:spcPct val="100000"/>
              </a:lnSpc>
              <a:spcBef>
                <a:spcPts val="675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700" spc="-1" strike="noStrike">
                <a:solidFill>
                  <a:srgbClr val="ffff99"/>
                </a:solidFill>
                <a:latin typeface="Arial"/>
              </a:rPr>
              <a:t>Both the data delivery and sensing coverage lifetimes increase linearly in proportion to the number of deployed node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716120" indent="-352440">
              <a:lnSpc>
                <a:spcPct val="100000"/>
              </a:lnSpc>
              <a:spcBef>
                <a:spcPts val="675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700" spc="-1" strike="noStrike">
                <a:solidFill>
                  <a:srgbClr val="ffff99"/>
                </a:solidFill>
                <a:latin typeface="Arial"/>
              </a:rPr>
              <a:t>Robust against node failure rates of up to 38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1716120" indent="-352440">
              <a:lnSpc>
                <a:spcPct val="100000"/>
              </a:lnSpc>
              <a:spcBef>
                <a:spcPts val="675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700" spc="-1" strike="noStrike">
                <a:solidFill>
                  <a:srgbClr val="ffff99"/>
                </a:solidFill>
                <a:latin typeface="Arial"/>
              </a:rPr>
              <a:t>Energy overhead is less than 1% of total energy consumption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76760" y="13612680"/>
            <a:ext cx="172800" cy="1605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05200" y="12739680"/>
            <a:ext cx="1963800" cy="195264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868560" y="13465080"/>
            <a:ext cx="976320" cy="23184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87000" y="1316664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raggadocio"/>
              </a:rPr>
              <a:t>PRO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27520" y="13514400"/>
            <a:ext cx="173160" cy="160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48480" y="14870160"/>
            <a:ext cx="17280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7080" y="1306044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9240" y="15013080"/>
            <a:ext cx="173160" cy="160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304720" y="14162040"/>
            <a:ext cx="17280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300120" y="13174560"/>
            <a:ext cx="1963440" cy="195264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155480" y="14063760"/>
            <a:ext cx="173160" cy="160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276440" y="15419520"/>
            <a:ext cx="17280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235040" y="1360980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787200" y="15562440"/>
            <a:ext cx="173160" cy="160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325320" y="12730320"/>
            <a:ext cx="1963800" cy="195264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390120" y="13665240"/>
            <a:ext cx="76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raggadocio"/>
              </a:rPr>
              <a:t>REP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3255200" y="13770000"/>
            <a:ext cx="5076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24840" y="14092200"/>
            <a:ext cx="17280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675600" y="13993920"/>
            <a:ext cx="173160" cy="160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796200" y="1534968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755160" y="13539960"/>
            <a:ext cx="17280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07320" y="15492240"/>
            <a:ext cx="173160" cy="160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24120" y="1747044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75240" y="17372160"/>
            <a:ext cx="173160" cy="160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95840" y="18727560"/>
            <a:ext cx="173160" cy="160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54800" y="16917840"/>
            <a:ext cx="17280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6960" y="18870480"/>
            <a:ext cx="173160" cy="160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349000" y="1747692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200120" y="17378280"/>
            <a:ext cx="173160" cy="160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320720" y="18734040"/>
            <a:ext cx="173160" cy="160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279320" y="1692432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31840" y="18876960"/>
            <a:ext cx="172800" cy="160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976120" y="17988120"/>
            <a:ext cx="1963800" cy="195264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057920" y="184150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raggadocio"/>
              </a:rPr>
              <a:t>PRO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783440" y="18102240"/>
            <a:ext cx="173160" cy="160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634560" y="18003960"/>
            <a:ext cx="172800" cy="160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755160" y="19359720"/>
            <a:ext cx="172800" cy="160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713760" y="17549640"/>
            <a:ext cx="17316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266280" y="19502280"/>
            <a:ext cx="172800" cy="160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28920" y="15992640"/>
            <a:ext cx="22774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772640" y="12563640"/>
            <a:ext cx="0" cy="748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504080" y="12633480"/>
            <a:ext cx="0" cy="748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10360" y="12754080"/>
            <a:ext cx="44672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ggadoci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Node 1 broadcasts a PROBE   within a probing range 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No working node is within Rp to nod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Node 1 becomes a working n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89120" y="13565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860440" y="12854160"/>
            <a:ext cx="4467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ggadoci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Probing node 2 broadcasts a PROBE   within 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Working node 3 sends back a RE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529880" y="12912840"/>
            <a:ext cx="282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Node 2 goes back to sleep ag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333320" y="139510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406040" y="13284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22880" y="16570440"/>
            <a:ext cx="44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ggadoci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Working node 4 fails or exhausts energy, and stops wor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4200" y="18276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685840" y="16541640"/>
            <a:ext cx="446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aggadoci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Probing node 5 broadcasts a PROBE within 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The only node within Rp (node 4) is dead, thus no REPLY is sent to node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477600" y="18538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472640" y="16614720"/>
            <a:ext cx="282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raggadocio"/>
              </a:rPr>
              <a:t>Node 5 becomes a working node, replacing dead node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44640" y="11825280"/>
            <a:ext cx="228585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79600" indent="-579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762360"/>
                <a:tab algn="l" pos="752472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Keep a relatively constant density of working no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135040" y="20139120"/>
            <a:ext cx="1101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Palatino"/>
              </a:rPr>
              <a:t>Analytical Result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733720" y="21745440"/>
            <a:ext cx="10179000" cy="66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1249200" indent="-5554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When N Nodes are uniformly distributed in [0, l]</a:t>
            </a:r>
            <a:r>
              <a:rPr b="1" lang="en-US" sz="32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, the set of working nodes are connected asymptotically almost surely i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890720" indent="-289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N Rp</a:t>
            </a:r>
            <a:r>
              <a:rPr b="1" lang="en-US" sz="2800" spc="-1" strike="noStrike" baseline="30000">
                <a:solidFill>
                  <a:srgbClr val="ffff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&gt; 2 l</a:t>
            </a:r>
            <a:r>
              <a:rPr b="1" lang="en-US" sz="2800" spc="-1" strike="noStrike" baseline="30000">
                <a:solidFill>
                  <a:srgbClr val="ffff99"/>
                </a:solidFill>
                <a:latin typeface="Arial"/>
              </a:rPr>
              <a:t>2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lnl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890720" indent="-289080">
              <a:lnSpc>
                <a:spcPct val="100000"/>
              </a:lnSpc>
              <a:spcBef>
                <a:spcPts val="675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700" spc="-1" strike="noStrike">
                <a:solidFill>
                  <a:srgbClr val="ffff99"/>
                </a:solidFill>
                <a:latin typeface="Arial"/>
              </a:rPr>
              <a:t>The transmitting range Rt &gt;= (1+ </a:t>
            </a:r>
            <a:r>
              <a:rPr b="1" lang="en-US" sz="2700" spc="-1" strike="noStrike">
                <a:solidFill>
                  <a:srgbClr val="ffff99"/>
                </a:solidFill>
                <a:latin typeface="Symbol"/>
                <a:ea typeface="Symbol"/>
              </a:rPr>
              <a:t></a:t>
            </a:r>
            <a:r>
              <a:rPr b="1" lang="en-US" sz="2700" spc="-1" strike="noStrike">
                <a:solidFill>
                  <a:srgbClr val="ffff99"/>
                </a:solidFill>
                <a:latin typeface="Arial"/>
              </a:rPr>
              <a:t>5) probing range Rp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1249200" indent="-5554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e average length of interruption due to a dead working node is 1/</a:t>
            </a:r>
            <a:r>
              <a:rPr b="1" lang="en-US" sz="32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, where </a:t>
            </a:r>
            <a:r>
              <a:rPr b="1" lang="en-US" sz="3200" spc="-1" strike="noStrike">
                <a:solidFill>
                  <a:srgbClr val="ffff99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 is the aggregate probing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249200" indent="-5554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3762360"/>
                <a:tab algn="l" pos="752472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omplex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890720" indent="-289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State complexity at each node O(1) since no per-neighbor state is requi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890720" indent="-289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Font typeface="Arial"/>
              <a:buChar char="•"/>
              <a:tabLst>
                <a:tab algn="l" pos="3762360"/>
                <a:tab algn="l" pos="752472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Computing and energy overhead both O(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115480" y="28121040"/>
            <a:ext cx="1101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Palatino"/>
              </a:rPr>
              <a:t>Performance Evalu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avg_succ_vs_node" descr=""/>
          <p:cNvPicPr/>
          <p:nvPr/>
        </p:nvPicPr>
        <p:blipFill>
          <a:blip r:embed="rId2"/>
          <a:srcRect l="6808" t="28150" r="6051" b="23158"/>
          <a:stretch/>
        </p:blipFill>
        <p:spPr>
          <a:xfrm>
            <a:off x="3203640" y="29848320"/>
            <a:ext cx="5603760" cy="4430520"/>
          </a:xfrm>
          <a:prstGeom prst="rect">
            <a:avLst/>
          </a:prstGeom>
          <a:ln w="0">
            <a:noFill/>
          </a:ln>
        </p:spPr>
      </p:pic>
      <p:pic>
        <p:nvPicPr>
          <p:cNvPr id="155" name="avg_cover_vs_node" descr=""/>
          <p:cNvPicPr/>
          <p:nvPr/>
        </p:nvPicPr>
        <p:blipFill>
          <a:blip r:embed="rId3"/>
          <a:srcRect l="6556" t="28504" r="6723" b="22686"/>
          <a:stretch/>
        </p:blipFill>
        <p:spPr>
          <a:xfrm>
            <a:off x="9737640" y="29857680"/>
            <a:ext cx="5622840" cy="4478400"/>
          </a:xfrm>
          <a:prstGeom prst="rect">
            <a:avLst/>
          </a:prstGeom>
          <a:ln w="0">
            <a:noFill/>
          </a:ln>
        </p:spPr>
      </p:pic>
      <p:pic>
        <p:nvPicPr>
          <p:cNvPr id="156" name="succ_vs_fail" descr=""/>
          <p:cNvPicPr/>
          <p:nvPr/>
        </p:nvPicPr>
        <p:blipFill>
          <a:blip r:embed="rId4"/>
          <a:srcRect l="5546" t="27436" r="7061" b="22804"/>
          <a:stretch/>
        </p:blipFill>
        <p:spPr>
          <a:xfrm>
            <a:off x="3165480" y="35255160"/>
            <a:ext cx="5603760" cy="4514760"/>
          </a:xfrm>
          <a:prstGeom prst="rect">
            <a:avLst/>
          </a:prstGeom>
          <a:ln w="0">
            <a:noFill/>
          </a:ln>
        </p:spPr>
      </p:pic>
      <p:pic>
        <p:nvPicPr>
          <p:cNvPr id="157" name="cover_vs_fail" descr=""/>
          <p:cNvPicPr/>
          <p:nvPr/>
        </p:nvPicPr>
        <p:blipFill>
          <a:blip r:embed="rId5"/>
          <a:srcRect l="5041" t="34917" r="19158" b="21734"/>
          <a:stretch/>
        </p:blipFill>
        <p:spPr>
          <a:xfrm>
            <a:off x="9804240" y="35248680"/>
            <a:ext cx="5604120" cy="4535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137040" y="29413080"/>
            <a:ext cx="597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ggadocio"/>
              </a:rPr>
              <a:t>Data delivery lifetime vs. deployed node nu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224280" y="29413080"/>
            <a:ext cx="650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ggadocio"/>
              </a:rPr>
              <a:t>Sensing coverage lifetime vs. deployed node num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62240" y="34851960"/>
            <a:ext cx="515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ggadocio"/>
              </a:rPr>
              <a:t>Data delivery lifetime vs. node failur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586080" y="34851960"/>
            <a:ext cx="569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ggadocio"/>
              </a:rPr>
              <a:t>Sensing coverage lifetime vs. node failure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280400" y="23888880"/>
            <a:ext cx="192240" cy="0"/>
          </a:xfrm>
          <a:prstGeom prst="line">
            <a:avLst/>
          </a:prstGeom>
          <a:ln cap="sq" w="316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1T20:55:08Z</dcterms:created>
  <dc:creator>Internet Research Lab</dc:creator>
  <dc:description/>
  <dc:language>en-US</dc:language>
  <cp:lastModifiedBy>yefan</cp:lastModifiedBy>
  <cp:lastPrinted>1999-05-01T01:17:05Z</cp:lastPrinted>
  <dcterms:modified xsi:type="dcterms:W3CDTF">2000-10-29T20:17:09Z</dcterms:modified>
  <cp:revision>161</cp:revision>
  <dc:subject/>
  <dc:title>Information Discovery Graph</dc:title>
</cp:coreProperties>
</file>